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C58-C5E6-4008-8B08-0AF104D2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046-BF65-4504-BAF0-2CFE56F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5E2-7CE5-4388-923C-CD9046FC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E5C-096B-480C-BAAC-B6A5D02A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D27-3596-4983-B7EB-3EC5921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129-B1D3-4CE1-8E8E-35FA3BB3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FAE-7C38-483C-8D43-DE408248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2A2-8A0C-4CFD-8D90-3F1E71A1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DC7-71B3-448E-96AB-9804CA3E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722-A01D-4937-A3C9-5361DBC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AC9-3F05-4DA9-83CA-3A2B288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A1E-B16F-4B82-82DE-663A9F81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D99-AAD3-4551-A81A-A6387FAD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aragrap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NE reason that thesis is tr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serve the prize because I am the smartest man alive (Thesis: I deserve a priz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vidence that illustrates, explains, or supports the above rea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on the Scripps spelling bee; I was a mathlete (even though it’s social suicide); and I was valedictorian of my kindergarten cla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STEP: Expl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idence illustrates the reason and, therefore, proves the thesis. Without this step, paper is incompl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my incredible intellectual abilities, I deserve to be recognized with this prize. Winning a prize justifies my superior status in socie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04:02Z</dcterms:created>
  <dc:creator>Administrator</dc:creator>
  <dc:description/>
  <dc:language>en-US</dc:language>
  <cp:lastModifiedBy>Administrator</cp:lastModifiedBy>
  <dcterms:modified xsi:type="dcterms:W3CDTF">2010-10-19T14:04:11Z</dcterms:modified>
  <cp:revision>1</cp:revision>
  <dc:subject/>
  <dc:title>Slide 1</dc:title>
</cp:coreProperties>
</file>